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7FF-9BAD-4F22-A162-9CC7E7CEB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828-A68E-4FEB-A966-3B2713E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EF5-6299-4A6B-9533-784C4EC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4CB-329A-4BC4-9AE1-D931A32D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2BA-F187-489C-9938-FFAD307F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81BE-EAE9-46FA-8667-24164C69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1BE-70ED-4E02-B01B-D25DFEF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94A0-0F04-4C0F-8484-6916F5F8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0A6C-F319-4671-93FE-FF40C19B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06E-6FE4-4320-AB56-27731FC3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870C-6C98-4678-868E-DF6E48B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AA3-E72C-4030-8DD8-42F538D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4E1-9785-469C-A53D-30FD730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B62B-40CD-4798-8E2B-E26EF86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6FFD-8DE7-43D0-803F-F7591AE1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7699-2E88-49EB-BEB4-C3222CF8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2C42-B592-40EC-A1BC-1258AB79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048B-CC33-48EE-9C98-F2F4CD35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057-6C83-4C63-85B3-068225B2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A05-B948-4D93-8113-7035A27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C41-C336-481C-8191-1FACE41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641-E58A-4E4C-AA2E-3EF35C66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EFC-512E-446D-B6F7-F1CE92BE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F27-170C-4A1F-A61B-0B11039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B46-B510-4F8E-AE61-5722037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80960" y="661968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9CA-F3A3-4021-9B81-06A6175AFC48}" type="slidenum">
              <a:rPr b="0" lang="es-A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11012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10920" y="6605280"/>
            <a:ext cx="44658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0F2-2662-44AE-8F2C-F1F08B9873D3}" type="slidenum">
              <a:rPr b="0" lang="es-A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9400" y="169920"/>
            <a:ext cx="699840" cy="50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1012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0320" y="1920960"/>
            <a:ext cx="77709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l PORTAFOLIO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ólo 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407240" y="342900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Evaluación Interna – 20%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RESENTA</a:t>
            </a: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IÓ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Dividir los ensayos de acuerdo con los criterios. Éstos deben utilizarse como subtítulo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Incluir el título, fecha completa, área de impacto y cantidad de palabra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La cantidad de palabras no incluye la bibliografía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Incluir una portada con estos dat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Incluir una bibliografía formal. Las fuentes deben haber sido incluidas en el cuerpo del ensayo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Se deben citar todos los hechos, estadísticas, citas textuales, opiniones de otros, etc</a:t>
            </a:r>
            <a:r>
              <a:rPr b="1" lang="es-AR" sz="2000" spc="-1" strike="noStrike">
                <a:solidFill>
                  <a:srgbClr val="ffffcc"/>
                </a:solidFill>
                <a:latin typeface="Tahoma"/>
              </a:rPr>
              <a:t>. Evitar los párrafos largos entre comillas si no son luego analizados críticamente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A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En este criterio se deben explicar los 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impactos sociales y/o éticos del tema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B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Este criterio trata los aspectos tecnológicos del tema y debe cubrir 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Conceptos: cómo trabaja la tecnología en estud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Desarrollos: qué factores han posibilitado que esta tecnología aparezca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Tendencias: estadísticas relacionadas al incremental uso de la tecnología analizada para ello se debe citar fuentes confiable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638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DISCUTA LA SITUACIÓN ACTUAL DE LA TECNOLOGÍA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aea"/>
                </a:solidFill>
                <a:latin typeface="Arial"/>
              </a:rPr>
              <a:t>Muchos alumnos en el mejor de los casos, sólo describen la tecnología, pero es necesario discutirl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C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Se</a:t>
            </a: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  analizan los impactos sociales y/o éticos del tema tomando en cuenta a los distintos involucrado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D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Se debe plantear una solución al principal problema claramente enunciado en C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aeaea"/>
                </a:solidFill>
                <a:latin typeface="Tahoma"/>
              </a:rPr>
              <a:t>CRITERIO E</a:t>
            </a:r>
            <a:br>
              <a:rPr sz="4400"/>
            </a:br>
            <a:r>
              <a:rPr b="0" lang="es-A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Selección y Uso de Fuent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Utilice un formato reconocido para la bibliografía y las notas al pie de página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La noticia debe adjuntarse en el trabajo. De no hacerlo la nota del criterio es 0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8640" y="1519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RITERIO F</a:t>
            </a:r>
            <a:br>
              <a:rPr sz="4400"/>
            </a:b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Expresión de ideas pertinentes a la cuestión soci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eaeaea"/>
                </a:solidFill>
                <a:latin typeface="Tahoma"/>
              </a:rPr>
              <a:t>Este criterio es corregido por el profeso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 ideas con argumentos que las respald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 ideas con argumentos que las respaldan y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ejemplos pertinent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1800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 ideas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coherentemente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con argumentos que las respaldan y ejemplos pertinent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</a:t>
            </a:r>
            <a:r>
              <a:rPr b="0" i="1" lang="es-AR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ideas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coherentemente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con argumentos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que las respaldan y ejemplos </a:t>
            </a:r>
            <a:r>
              <a:rPr b="1" lang="es-AR" sz="2000" spc="-1" strike="noStrike">
                <a:solidFill>
                  <a:srgbClr val="ffffcc"/>
                </a:solidFill>
                <a:latin typeface="Tahoma"/>
              </a:rPr>
              <a:t>pertinentes y elaborad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GUÍA</a:t>
            </a:r>
            <a:r>
              <a:rPr b="1" lang="pt-BR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PARA CALIFIC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ahoma"/>
              </a:rPr>
              <a:t>Los comentarios son esenciales para los alumnos y moderador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Incluya una planilla con comentarios o escriba estos en el ensayo con lápiz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La nota final para cada criterio no es la media de los tres trabajos, sino que es la nota que mejor representa el logro alcanzado en ese criterio por el alumn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La nota final en cada criterio debe haber sido lograda en, al menos uno, de los tres trabaj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676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ROBLEMAS DE EVALUACIÓ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676520"/>
            <a:ext cx="883944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eaeaea"/>
              </a:buClr>
              <a:buFont typeface="Tahoma"/>
              <a:buChar char="•"/>
              <a:tabLst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Si se envían menos de tres ensayos la nota final se ajusta proporcionalmen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Ej. 2 ensayos = nota final * .0.6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eaeaea"/>
              </a:buClr>
              <a:buFont typeface="Tahoma"/>
              <a:buChar char="•"/>
              <a:tabLst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Si el tema no está relacionado con TISG el ensayo no es considerado y se clasifica según el criterio anteri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REQUERIMIENTO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ahoma"/>
              </a:rPr>
              <a:t>Tres trabaj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Cada uno de un área diferente de impact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Empresas y Empleos, Educación, Salud, Política y Gobiern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Arte/Entretenimiento/Ocio, Ciencia y Medioambiente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800-1000 palabras en total (no incluye. bibliografía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Basado en una noticia escrita en el idioma de trabajo o traducida con certificación de su traducción. (antigüedad no mayor de 6 meses de comenzado el curso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El trabajo </a:t>
            </a:r>
            <a:r>
              <a:rPr b="0" lang="es-AR" sz="2800" spc="-1" strike="noStrike">
                <a:solidFill>
                  <a:srgbClr val="ffffcc"/>
                </a:solidFill>
                <a:latin typeface="Tahoma"/>
              </a:rPr>
              <a:t>se debe enfocar en el contexto</a:t>
            </a: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 de la noticia seleccionada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No </a:t>
            </a: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está permitido ningún tipo de colaboración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L TRIÁNGUL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2971800" cy="16160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ahoma"/>
                <a:ea typeface="Times New Roman"/>
              </a:rPr>
              <a:t>TEMAS SOCIALES Y É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 utilizan para analizar el impacto social y las consideraciones éticas de TI. (Sección 1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600200"/>
            <a:ext cx="3200400" cy="1647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ahoma"/>
                <a:ea typeface="Times New Roman"/>
              </a:rPr>
              <a:t>SISTEMAS DE TI EN UN CONTEXTO SOCIAL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emas relacionados con el uso de  software, hardware y los sistemas de información relacionados </a:t>
            </a:r>
            <a:r>
              <a:rPr b="1" lang="es-A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Sección 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267080"/>
            <a:ext cx="3200400" cy="1585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ahoma"/>
                <a:ea typeface="Times New Roman"/>
              </a:rPr>
              <a:t>ÁREAS DE IMPAC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aeaea"/>
                </a:solidFill>
                <a:latin typeface="Tahoma"/>
                <a:ea typeface="Times New Roman"/>
              </a:rPr>
              <a:t>Principales áreas de impacto de las cuales se pueden elegir los temas (Sección 3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cc"/>
                </a:solidFill>
                <a:latin typeface="Tahoma"/>
              </a:rPr>
              <a:t>Seleccione el tópico desde ac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19440" y="2286000"/>
            <a:ext cx="190512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276720"/>
            <a:ext cx="1600200" cy="92232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171840" y="3352680"/>
            <a:ext cx="1523880" cy="8794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9160" y="9907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imes New Roman"/>
              </a:rPr>
              <a:t>Criterio A y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106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imes New Roman"/>
              </a:rPr>
              <a:t>Criterio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MIENZ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219320" y="1447920"/>
            <a:ext cx="6443640" cy="449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¿QUÉ ES UNA NOTICIA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782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Artículos de periódic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Artículos de revist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Artículos de Interne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3200400"/>
            <a:ext cx="3124080" cy="2209680"/>
            <a:chOff x="2362320" y="3200400"/>
            <a:chExt cx="3124080" cy="2209680"/>
          </a:xfrm>
        </p:grpSpPr>
        <p:sp>
          <p:nvSpPr>
            <p:cNvPr id="110" name=""/>
            <p:cNvSpPr/>
            <p:nvPr/>
          </p:nvSpPr>
          <p:spPr>
            <a:xfrm>
              <a:off x="2362320" y="3200400"/>
              <a:ext cx="3124080" cy="2209680"/>
            </a:xfrm>
            <a:prstGeom prst="irregularSeal1">
              <a:avLst/>
            </a:prstGeom>
            <a:noFill/>
            <a:ln w="381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360" y="4030560"/>
              <a:ext cx="137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eaeaea"/>
                  </a:solidFill>
                  <a:latin typeface="Tahoma"/>
                </a:rPr>
                <a:t>Discuti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86400" y="2743200"/>
            <a:ext cx="31240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apropiad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auténtic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exact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confiabl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actu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¿LA NOTICIA ES APROPIADA?</a:t>
            </a: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Tahoma"/>
              </a:rPr>
              <a:t>Cuando se trata de uno o más temas sociales o éticos relacionados con un sistema de la T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21932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Tecnología de la Información incluye   la adquisición, el procesamiento, almacenaje, manipulación y diseminación de la información digital por computadora o telecomunicaciones o una combinación de amb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57200" y="0"/>
            <a:ext cx="100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¿Qué significa TI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¿CÓMO ELEGIR UNA NOTICIA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El Tem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Debe estar relacionado con TI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Debe interesar al estudiant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No debe ser demasiado ampli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Debe tratarse de un problema que teng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solución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944240" y="1752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¡Ofrezcamos ayuda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3352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¡Evitemos desastre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2880" y="1452600"/>
            <a:ext cx="4029120" cy="395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14880" y="2590920"/>
            <a:ext cx="4029120" cy="40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00:33Z</dcterms:created>
  <dc:creator>St Peter's College</dc:creator>
  <dc:description/>
  <dc:language>en-US</dc:language>
  <cp:lastModifiedBy>Estrella Córdoba Bogantes </cp:lastModifiedBy>
  <dcterms:modified xsi:type="dcterms:W3CDTF">2009-03-24T20:45:36Z</dcterms:modified>
  <cp:revision>143</cp:revision>
  <dc:subject/>
  <dc:title>PowerPoint Presentation</dc:title>
</cp:coreProperties>
</file>